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6DE-5D84-44B8-822D-F9980E6B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E87-60CF-41F7-9C17-0C57C8FB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3D8-4DB5-4B5C-A535-1CEA059C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4BC-D8A8-4756-B007-F86ADC57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20E2-1503-4E52-BE36-9ADF52A2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048D-1624-4C7E-9B19-C7F4ABF9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C63E-3FAA-4A1A-AF00-F2C059B4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3DE4-6C5A-406A-97C2-76E559DC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B654-36FE-470A-9405-6EF1AB32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22CD-F545-4AFE-A3E0-38050E15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2393-023F-4DCA-A355-2E8B6F25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18F-3629-41F5-90F4-FDC7ED88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FE59-C96F-4E70-9523-F6939243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E6FD-AC84-494C-BF60-FB7D0BC1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4482-F0D6-4550-9527-BCD6536A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E9C6-DC1D-49E5-A075-C90DCD45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8743-2DC2-4FE9-87FC-38371943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E5E2-B0BA-4B20-9AF3-CBB1F0D2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3A26-6F59-44CC-9259-68C478E2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84BE-7422-4CC2-B151-CD138164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28E9-3A4D-4A4B-A2F3-97D5CB0D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AA49-37DE-4368-B791-807FE51B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683-5515-420A-8ED9-07FC67E8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BCCA-8060-460C-B036-8D0F333B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57DA7-6E61-41FE-97F2-A36E9EC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1F89-F52D-463A-A382-F889AAD3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4801-F647-47E7-AB07-D54784A8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EBFA6-B564-4B6C-B458-4DE1BB01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BEFC-4126-4A6E-85B7-CEBE4DFE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A288-3ED4-4BED-87E3-4855EE21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6EC1-3555-4B29-B295-C1F6DB3D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D9C1-B2B6-4B1F-AE09-F7049E75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22EF4-EC9D-4320-8834-94A0C10D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D56-9FA6-4899-B5A0-124AB73F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D94D-2512-457A-B776-03973582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F209-BBD8-4698-AE31-3D6BD978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62C58-2B89-4F62-9F53-81B52D13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7F09-74AB-4F70-8692-86567782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A496-2E89-4AA3-A561-1D475C84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6E3D7-AC4A-4F3B-9E10-17847E30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AF30-59B4-4BD9-A124-1F23DEB3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886B-3A66-4EAF-A4DE-2E5B6F19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84F2-3D0E-4CC6-BE1E-F0C25436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9983-AA7E-4AA1-AFBB-2CC4BD63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267-4C0B-497F-BBD9-0BDE702B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43C48-FD79-40AE-A496-F703B250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2E481-9BC3-4DC0-9422-C66B4041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00DE-9FA2-402B-8F55-2689CF10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C9509-B26C-44B9-A7B0-77748583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0EF04-02D8-4EE0-B6E0-16B91D2E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B5DC1-A883-49D2-809A-B87FA4EF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2D027-F80F-434F-BB48-57FE76AA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6B12B-F16D-4C66-9633-5DDC6BE7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F7058-23B1-4E4D-8499-91154592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853D2-8F16-47D4-9A2A-2BCE022C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6CB-3D01-477D-B351-679AD52E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8107E-0D6A-4F61-A953-4226DA97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80769-9314-4D22-BC1A-628E6ABF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141B-F455-4B3A-A845-0C6C4D6D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663F5-8354-4E8C-9C54-8264AF23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9231C-460E-4D49-86FA-1D6C51E8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5C538-331E-4C90-B3D9-BD10E652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6DAE8-5F35-4380-9A53-BCCD719B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D8BDC-DA62-41D6-82F3-3E0B4DB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72AA2-9786-44F0-9DEE-50FBCA4D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4C2B4-2995-4D11-8BEE-9C9D757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3E4-7427-47AE-87C5-F9ACD54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6DF4D-1E52-4962-8CB7-B512810D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2F55B-1396-452D-A26B-40C093CA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0E2EF-6AD1-49ED-A55C-0D6E0A24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9C4-3B45-4CFD-B226-CE167B7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72F-AF98-4FA6-8901-4991CE7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174-1FE0-4F26-99A9-5676F7179ABE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9400"/>
            </a:gs>
            <a:gs pos="100000">
              <a:srgbClr val="ffe0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ABF1-4D22-45F3-9E91-F47AA1C61BE7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9400"/>
            </a:gs>
            <a:gs pos="100000">
              <a:srgbClr val="ffe0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8B4B-683F-491C-8ADC-0B1D088ADDDC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99A0-CE10-4BD9-A506-45A8BE4BE691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0DF8-3BF8-40F3-8341-FB9C6867DFB4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806F-1617-4EA5-9F90-FA35393FEEE8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-500040" y="2736720"/>
            <a:ext cx="8845560" cy="2603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99720" y="4786200"/>
            <a:ext cx="6480360" cy="7257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3b3b3b"/>
                </a:solidFill>
                <a:latin typeface="Arial"/>
              </a:rPr>
              <a:t>By Rónán Breathnach</a:t>
            </a:r>
            <a:endParaRPr b="0" lang="en-US" sz="1700" spc="-1" strike="noStrike">
              <a:solidFill>
                <a:srgbClr val="3b3b3b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b3b3b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3b3b3b"/>
                </a:solidFill>
                <a:latin typeface="Arial"/>
              </a:rPr>
              <a:t>Sight words: how does this boy girl </a:t>
            </a:r>
            <a:endParaRPr b="0" lang="en-US" sz="1000" spc="-1" strike="noStrike">
              <a:solidFill>
                <a:srgbClr val="3b3b3b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3b3b3b"/>
                </a:solidFill>
                <a:latin typeface="Arial"/>
              </a:rPr>
              <a:t>why do you think she he that like</a:t>
            </a:r>
            <a:endParaRPr b="0" lang="en-US" sz="10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83" name="Content Placeholder 4" descr="crying boy.jpg"/>
          <p:cNvPicPr/>
          <p:nvPr/>
        </p:nvPicPr>
        <p:blipFill>
          <a:blip r:embed="rId1"/>
          <a:stretch/>
        </p:blipFill>
        <p:spPr>
          <a:xfrm>
            <a:off x="428760" y="1571760"/>
            <a:ext cx="3429000" cy="464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266720" y="1600200"/>
            <a:ext cx="451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happy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86" name="Content Placeholder 4" descr="happyboy.jpg"/>
          <p:cNvPicPr/>
          <p:nvPr/>
        </p:nvPicPr>
        <p:blipFill>
          <a:blip r:embed="rId1"/>
          <a:stretch/>
        </p:blipFill>
        <p:spPr>
          <a:xfrm>
            <a:off x="160200" y="1500120"/>
            <a:ext cx="4176720" cy="4929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643280" y="164304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b3b3b"/>
                </a:solidFill>
                <a:latin typeface="Comic Sans MS"/>
              </a:rPr>
              <a:t>What other good feelings do you get?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89" name="Content Placeholder 4" descr="happy girl swing.bmp"/>
          <p:cNvPicPr/>
          <p:nvPr/>
        </p:nvPicPr>
        <p:blipFill>
          <a:blip r:embed="rId1"/>
          <a:stretch/>
        </p:blipFill>
        <p:spPr>
          <a:xfrm>
            <a:off x="806400" y="1600200"/>
            <a:ext cx="2959200" cy="4525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267080" y="1600200"/>
            <a:ext cx="44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happy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92" name="Content Placeholder 4" descr="frightened boy.jpg"/>
          <p:cNvPicPr/>
          <p:nvPr/>
        </p:nvPicPr>
        <p:blipFill>
          <a:blip r:embed="rId1"/>
          <a:stretch/>
        </p:blipFill>
        <p:spPr>
          <a:xfrm>
            <a:off x="471600" y="1600200"/>
            <a:ext cx="3628800" cy="4525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266720" y="1600200"/>
            <a:ext cx="459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scared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95" name="Content Placeholder 4" descr="sad girl in corner.jpg"/>
          <p:cNvPicPr/>
          <p:nvPr/>
        </p:nvPicPr>
        <p:blipFill>
          <a:blip r:embed="rId1"/>
          <a:stretch/>
        </p:blipFill>
        <p:spPr>
          <a:xfrm>
            <a:off x="777960" y="1600200"/>
            <a:ext cx="3016080" cy="4525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266720" y="1600200"/>
            <a:ext cx="451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sad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98" name="Content Placeholder 4" descr="scared boy.jpg"/>
          <p:cNvPicPr/>
          <p:nvPr/>
        </p:nvPicPr>
        <p:blipFill>
          <a:blip r:embed="rId1"/>
          <a:stretch/>
        </p:blipFill>
        <p:spPr>
          <a:xfrm>
            <a:off x="938160" y="1843200"/>
            <a:ext cx="2695680" cy="40384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267080" y="1600200"/>
            <a:ext cx="437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scared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6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301" name="Picture 2" descr="angry smiley.jpg"/>
          <p:cNvPicPr/>
          <p:nvPr/>
        </p:nvPicPr>
        <p:blipFill>
          <a:blip r:embed="rId1"/>
          <a:stretch/>
        </p:blipFill>
        <p:spPr>
          <a:xfrm>
            <a:off x="291960" y="2378160"/>
            <a:ext cx="1987560" cy="2468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frightened smiley.jpg"/>
          <p:cNvPicPr/>
          <p:nvPr/>
        </p:nvPicPr>
        <p:blipFill>
          <a:blip r:embed="rId2"/>
          <a:stretch/>
        </p:blipFill>
        <p:spPr>
          <a:xfrm>
            <a:off x="2882880" y="4737240"/>
            <a:ext cx="2097000" cy="2528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happy smiley.jpg"/>
          <p:cNvPicPr/>
          <p:nvPr/>
        </p:nvPicPr>
        <p:blipFill>
          <a:blip r:embed="rId3"/>
          <a:stretch/>
        </p:blipFill>
        <p:spPr>
          <a:xfrm>
            <a:off x="4979880" y="1305000"/>
            <a:ext cx="2371680" cy="3029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sad smiley.jpg"/>
          <p:cNvPicPr/>
          <p:nvPr/>
        </p:nvPicPr>
        <p:blipFill>
          <a:blip r:embed="rId4"/>
          <a:stretch/>
        </p:blipFill>
        <p:spPr>
          <a:xfrm>
            <a:off x="7023240" y="4591080"/>
            <a:ext cx="2097000" cy="263844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"/>
          <p:cNvSpPr/>
          <p:nvPr/>
        </p:nvSpPr>
        <p:spPr>
          <a:xfrm>
            <a:off x="428760" y="1571760"/>
            <a:ext cx="192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Comic Sans MS"/>
                <a:ea typeface="Aharoni"/>
              </a:rPr>
              <a:t>angry</a:t>
            </a:r>
            <a:endParaRPr b="0" lang="en-US" sz="44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3071880" y="41432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omic Sans MS"/>
              </a:rPr>
              <a:t>scared</a:t>
            </a:r>
            <a:endParaRPr b="0" lang="en-US" sz="4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7" name="TextBox 10"/>
          <p:cNvSpPr/>
          <p:nvPr/>
        </p:nvSpPr>
        <p:spPr>
          <a:xfrm>
            <a:off x="5500800" y="5716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4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7572240" y="39290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omic Sans MS"/>
              </a:rPr>
              <a:t>sad</a:t>
            </a:r>
            <a:endParaRPr b="0" lang="en-US" sz="40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Franklin Gothic Book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b3b3b"/>
                </a:solidFill>
                <a:latin typeface="Arial"/>
              </a:rPr>
              <a:t>Happy </a:t>
            </a: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b3b3b"/>
                </a:solidFill>
                <a:latin typeface="Arial"/>
              </a:rPr>
              <a:t>Sad</a:t>
            </a: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b3b3b"/>
                </a:solidFill>
                <a:latin typeface="Arial"/>
              </a:rPr>
              <a:t>Angry</a:t>
            </a: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b3b3b"/>
                </a:solidFill>
                <a:latin typeface="Arial"/>
              </a:rPr>
              <a:t>Scared</a:t>
            </a: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6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57" name="Picture 2" descr="angry smiley.jpg"/>
          <p:cNvPicPr/>
          <p:nvPr/>
        </p:nvPicPr>
        <p:blipFill>
          <a:blip r:embed="rId1"/>
          <a:stretch/>
        </p:blipFill>
        <p:spPr>
          <a:xfrm>
            <a:off x="291960" y="2378160"/>
            <a:ext cx="1987560" cy="2468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frightened smiley.jpg"/>
          <p:cNvPicPr/>
          <p:nvPr/>
        </p:nvPicPr>
        <p:blipFill>
          <a:blip r:embed="rId2"/>
          <a:stretch/>
        </p:blipFill>
        <p:spPr>
          <a:xfrm>
            <a:off x="2523960" y="3876840"/>
            <a:ext cx="2097360" cy="2530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appy smiley.jpg"/>
          <p:cNvPicPr/>
          <p:nvPr/>
        </p:nvPicPr>
        <p:blipFill>
          <a:blip r:embed="rId3"/>
          <a:stretch/>
        </p:blipFill>
        <p:spPr>
          <a:xfrm>
            <a:off x="4627440" y="1878120"/>
            <a:ext cx="2363760" cy="3028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sad smiley.jpg"/>
          <p:cNvPicPr/>
          <p:nvPr/>
        </p:nvPicPr>
        <p:blipFill>
          <a:blip r:embed="rId4"/>
          <a:stretch/>
        </p:blipFill>
        <p:spPr>
          <a:xfrm>
            <a:off x="6595920" y="3949560"/>
            <a:ext cx="2097360" cy="2633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62" name="Content Placeholder 4" descr="HappyGirl.jpg"/>
          <p:cNvPicPr/>
          <p:nvPr/>
        </p:nvPicPr>
        <p:blipFill>
          <a:blip r:embed="rId1"/>
          <a:stretch/>
        </p:blipFill>
        <p:spPr>
          <a:xfrm>
            <a:off x="285840" y="1500120"/>
            <a:ext cx="385740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266720" y="1600200"/>
            <a:ext cx="451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happy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65" name="Content Placeholder 4" descr="sad boy.jpg"/>
          <p:cNvPicPr/>
          <p:nvPr/>
        </p:nvPicPr>
        <p:blipFill>
          <a:blip r:embed="rId1"/>
          <a:stretch/>
        </p:blipFill>
        <p:spPr>
          <a:xfrm>
            <a:off x="590400" y="1643040"/>
            <a:ext cx="3391200" cy="4286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266720" y="1600200"/>
            <a:ext cx="459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sad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68" name="Content Placeholder 4" descr="angry girl.jpg"/>
          <p:cNvPicPr/>
          <p:nvPr/>
        </p:nvPicPr>
        <p:blipFill>
          <a:blip r:embed="rId1"/>
          <a:stretch/>
        </p:blipFill>
        <p:spPr>
          <a:xfrm>
            <a:off x="571680" y="1281240"/>
            <a:ext cx="3286080" cy="4948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267080" y="1600200"/>
            <a:ext cx="46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cross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71" name="Content Placeholder 4" descr="scared girl.jpg"/>
          <p:cNvPicPr/>
          <p:nvPr/>
        </p:nvPicPr>
        <p:blipFill>
          <a:blip r:embed="rId1"/>
          <a:stretch/>
        </p:blipFill>
        <p:spPr>
          <a:xfrm>
            <a:off x="457200" y="1643040"/>
            <a:ext cx="3657600" cy="4000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267080" y="1600200"/>
            <a:ext cx="44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frightened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74" name="Content Placeholder 4" descr="happy boy sums.jpg"/>
          <p:cNvPicPr/>
          <p:nvPr/>
        </p:nvPicPr>
        <p:blipFill>
          <a:blip r:embed="rId1"/>
          <a:stretch/>
        </p:blipFill>
        <p:spPr>
          <a:xfrm>
            <a:off x="428760" y="1571760"/>
            <a:ext cx="3571920" cy="464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267080" y="1600200"/>
            <a:ext cx="46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happy in schoo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77" name="Content Placeholder 4" descr="scared girl wet.jpg"/>
          <p:cNvPicPr/>
          <p:nvPr/>
        </p:nvPicPr>
        <p:blipFill>
          <a:blip r:embed="rId1"/>
          <a:stretch/>
        </p:blipFill>
        <p:spPr>
          <a:xfrm>
            <a:off x="665280" y="1600200"/>
            <a:ext cx="324144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266720" y="1600200"/>
            <a:ext cx="459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Can you think of another word that means the same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80" name="Content Placeholder 4" descr="angry gilr.jpg"/>
          <p:cNvPicPr/>
          <p:nvPr/>
        </p:nvPicPr>
        <p:blipFill>
          <a:blip r:embed="rId1"/>
          <a:stretch/>
        </p:blipFill>
        <p:spPr>
          <a:xfrm>
            <a:off x="285840" y="1571760"/>
            <a:ext cx="4000320" cy="4500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266720" y="1600200"/>
            <a:ext cx="451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other words mean the same as cross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9:38:46Z</dcterms:created>
  <dc:creator>Ronan Breathnach</dc:creator>
  <dc:description/>
  <dc:language>en-US</dc:language>
  <cp:lastModifiedBy>Annie!</cp:lastModifiedBy>
  <dcterms:modified xsi:type="dcterms:W3CDTF">2012-12-28T20:31:37Z</dcterms:modified>
  <cp:revision>46</cp:revision>
  <dc:subject/>
  <dc:title>Emotions and Feelings</dc:title>
</cp:coreProperties>
</file>